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597A-5ED6-485F-B2AD-58BDAEB39E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4837-116D-4E13-AECB-21DEF1F850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626080" y="6419880"/>
            <a:ext cx="43005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2D32CE-63F7-4726-AB40-17557498CA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7640" y="530280"/>
            <a:ext cx="3422520" cy="2566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325520" y="3247920"/>
            <a:ext cx="7275600" cy="30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C4D8-3EF8-4F48-85DF-C6A7323281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85AE-ABFE-4934-9F26-68072B119E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B225-49B4-40FA-B4C9-9056F958F9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B0A9-55AB-4540-87DF-9AD5ACBAC0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818A-CBE1-438D-A1C3-3E9F661CE6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CD81-411D-4D00-82D6-3B66BA8056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7B42-54BC-4B38-8CA3-AA54B494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4238-B09F-4A67-BBDA-F430C513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E9C-233E-46DD-BD38-3A1D1445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5D1-7C46-4134-B94E-1B8B3BD9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9857-1060-465F-A6EC-67C11BCA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4A6-B517-4512-A2AE-FB68D8D4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6AD2-0DF3-4614-949C-DA9A0B02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DA4B-E148-4E93-878F-62C6DB9A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9D8-BA28-40B2-A797-17AA5C02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991-3F03-4AAA-A8E8-D5A78AAA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D69-4B83-4074-A047-47B635DE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FD9C-208D-4A36-A0DD-9DD16492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DBDA-A479-454D-BE6E-8D8D3A6F51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20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28640"/>
          <a:ext cx="8462880" cy="4451400"/>
        </p:xfrm>
        <a:graphic>
          <a:graphicData uri="http://schemas.openxmlformats.org/drawingml/2006/table">
            <a:tbl>
              <a:tblPr/>
              <a:tblGrid>
                <a:gridCol w="2016000"/>
                <a:gridCol w="1008360"/>
                <a:gridCol w="1223640"/>
                <a:gridCol w="1295640"/>
                <a:gridCol w="1224000"/>
                <a:gridCol w="1695240"/>
              </a:tblGrid>
              <a:tr h="3160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16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16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10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3 указываются сведения о медицинских сестрах, которые не включают данные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4 заполняются сведения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10 + 30.1105.1.15 + 30.1105.1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10 + 30.1105.2.15 + 30.1105.2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10 + 30.1105.3.15 + 30.1105.3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.  ≥ 30.1105.1.05. + 30.1105.1.06 + 30.1105.1.07 + 30.1105.1.08  + 30.1105.1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. ≥ 30.1105.2.05. + 30.1105.2.06 + 30.1105.2.07 + 30.1105.2.08  + 30.1105.2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. ≥ 30.1105.3.05. + 30.1105.3.06 + 30.1105.3.07 + 30.1105.3.08  + 30.1105.3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142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3200" y="1123560"/>
            <a:ext cx="8471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. ≥ 30.1105.1.11. + 30.1105.1.12 + 30.1105.1.13 + 30.1105.1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. ≥ 30.1105.2.11. + 30.1105.2.12 + 30.1105.2.13 + 30.1105.2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. ≥ 30.1105.3.11. + 30.1105.3.12 + 30.1105.3.13 + 30.1105.3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357120" y="1268280"/>
            <a:ext cx="86472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бъектах, где работают только самостоятельные станции скорой медицинской помощи данные о должностях должны совпадать со сведениями в форме 47 табл. 1800 стр.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 = 47.1800.16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 = 47.1800.16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 = 47.1800.16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285840" y="1557360"/>
            <a:ext cx="86454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 = 47.1800.16.06 + 47.1800.16.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 = 47.1800.16.07 + 47.1800.16.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 = 47.1800.16.08  + 47.1800.16.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 = 47.1800.16.18 + 47.1800.16.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 = 47.1800.16.19 + 47.1800.16.1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 = 47.1800.16.20 + 47.1800.16.1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от 20 июня 2013  г. № 388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21 февраля 2020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5 = 47.1800.16.2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5 = 47.1800.16.2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5 = 47.1800.16.2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6 = 47.1800.16.09 + 47.1800.16.2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6 = 47.1800.16.10 + 47.1800.16.25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прочего персонала ста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6 = 47.1800.16.11 + 47.1800.16.26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5600"/>
                <a:gridCol w="9367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от 20 июня 2013 г. № 388н 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≤ 30.2121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≤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1268280"/>
          <a:ext cx="8785440" cy="5489640"/>
        </p:xfrm>
        <a:graphic>
          <a:graphicData uri="http://schemas.openxmlformats.org/drawingml/2006/table">
            <a:tbl>
              <a:tblPr/>
              <a:tblGrid>
                <a:gridCol w="4176720"/>
                <a:gridCol w="503280"/>
                <a:gridCol w="836640"/>
                <a:gridCol w="1036800"/>
                <a:gridCol w="1141200"/>
                <a:gridCol w="1090800"/>
              </a:tblGrid>
              <a:tr h="1462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-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й эвакуаций, выполненных выездными бригадами (ли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      № 388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«Число медицинских эвакуаций, выполненных выездными бригадами (лиц)» указываются сведения о числе лиц, которым была оказана скорая медицинская помощь при медицинской эвакуации (из графы 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  =  30.2120.3.0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3680" y="233280"/>
            <a:ext cx="82803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1680" y="1484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ездных бригад скорой медицинской помощ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3=30.2200.1.03+30.2200.2.03+30.2200.3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4=30.2200.1.04+30.2200.2.04+30.2200.3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5=30.2200.1.05+30.2200.2.05+30.2200.3.0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=30.2200.1.06+30.2200.2.06+30.2200.3.0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56760"/>
            <a:ext cx="8280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8000" y="1412640"/>
            <a:ext cx="8856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6=30.2200.11.06+30.2200.12.0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63400" y="1415880"/>
          <a:ext cx="8112240" cy="5266080"/>
        </p:xfrm>
        <a:graphic>
          <a:graphicData uri="http://schemas.openxmlformats.org/drawingml/2006/table">
            <a:tbl>
              <a:tblPr/>
              <a:tblGrid>
                <a:gridCol w="4154760"/>
                <a:gridCol w="788760"/>
                <a:gridCol w="1584360"/>
                <a:gridCol w="1584360"/>
              </a:tblGrid>
              <a:tr h="157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 (да-1, нет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корой медицинской помощи (да-1, нет –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Заголовок 1"/>
          <p:cNvSpPr/>
          <p:nvPr/>
        </p:nvSpPr>
        <p:spPr>
          <a:xfrm>
            <a:off x="826920" y="40464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8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2920" y="1076040"/>
            <a:ext cx="88581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  ≥  30.2200.21.03 +30.2200.22.03+30.2200.23.03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3+30.2200.25.03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 ≥ 30.2200.21.04+30.2200.22.04+30.2200.23.04+ 30.2200.24.04+30.2200.25.04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  ≥  30.2200.21.05+30.2200.22.05+30.2200.23.05 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5 +30.2200.25.0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6 ≥ 30.2200.21.06+30.2200.22.06+30.2200.23.06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6+30.2200.25.06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, в том числе при медицинской эвакуации)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ло лиц, эвакуированных с использованием санитарной авиации за счет средств регионального бюджета (из табл. 2200, стр. 3, гр.6) 1 __________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в первые сутки 2 ________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13791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скорой медицинской помощ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тделений скорой медицинской помощ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4 + 30.1060.2.04 + 30.1060.3.04 + 30.1060.4.04 + 30.1060.5.04 + 30.1060.6.04 + 30.1060.7.04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765000"/>
          <a:ext cx="8643960" cy="592488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719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стационары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ациентов, доставленных в травмо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уровня с места дорожно-транспор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эвакуированных по экстренным медицинским показаниям в первые 24 часа в медицинские организации 2-го и 3-го уровней в рамках трехуровневой системы оказания медицинской помощи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5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20 г. по сравнению с 2019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от 1 декабря 2005 г. № 752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≤ 30.1060.1.03+1.04 + 30.1060.2.03+2.04 +30.1060.3.03+3.04 + 30.1060.4.03+4.04 + 30.1060.5.03+5.04 + 30.1060.6.03+6.04 + 30.1060.7.03+7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500120"/>
          <a:ext cx="8462880" cy="4908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720720"/>
                <a:gridCol w="863640"/>
                <a:gridCol w="1008000"/>
                <a:gridCol w="936720"/>
                <a:gridCol w="1008000"/>
                <a:gridCol w="719280"/>
                <a:gridCol w="687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е 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-зиологи-реанима-толог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5200" y="1628640"/>
          <a:ext cx="8553600" cy="4981680"/>
        </p:xfrm>
        <a:graphic>
          <a:graphicData uri="http://schemas.openxmlformats.org/drawingml/2006/table">
            <a:tbl>
              <a:tblPr/>
              <a:tblGrid>
                <a:gridCol w="1673280"/>
                <a:gridCol w="874800"/>
                <a:gridCol w="726840"/>
                <a:gridCol w="1017720"/>
                <a:gridCol w="1352520"/>
                <a:gridCol w="935280"/>
                <a:gridCol w="907920"/>
                <a:gridCol w="1065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 (фельдшеры) по приему вызо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-шеры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-цинские сес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-кие сестры анесте-зис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cp:lastPrinted>2020-12-02T13:30:30Z</cp:lastPrinted>
  <dcterms:modified xsi:type="dcterms:W3CDTF">2020-12-03T06:24:11Z</dcterms:modified>
  <cp:revision>513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